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67E-3589-4C89-A548-B95B6FF6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9EB-C45A-4E6C-8BCD-17AD0E54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209-7BE5-4909-AA66-0639E5B2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239-7D30-4A4C-998E-9367389A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8090-FF74-401F-8CC4-B7AEDAF5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6772-B722-487D-9F87-A6D1A88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3609-1287-4B79-9088-068F245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BB65-4838-4DEA-95E5-F6AAC75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AFD7-4DC3-4876-BD0F-E8FBA1B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1B7-91A1-4A6C-B079-F83BD9ED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A77B-8E13-4AF1-902C-D3EAA159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C3D-3217-4E69-BBB3-01397ADD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10E8-F64E-487F-9C0D-BCE0E62D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00B-B264-47A8-86E7-86DF15BA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D62A-3C90-4DD5-A847-01F6900D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DC02-F8D8-44A4-9653-3DBAF574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42FF-12C4-405F-88BB-86F2C63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754-7563-4594-89EF-ACACFA2A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279-A8D7-4010-8404-DB460E69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FAE-1485-4D6E-8B80-C021D017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E07-3F72-4912-B49F-62C6DF6C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BAB-4B65-4FF7-85A5-A4369FA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D1F-C712-42C3-8A6B-3BDFF53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1C9-9A9E-400C-B967-6AD0B0CC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B24E-D452-4F95-A700-40468E2820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1926-C601-413D-A042-DB4E064D0F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,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омпоненттері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508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96-97 б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349200"/>
            <a:ext cx="8064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7440" y="0"/>
            <a:ext cx="506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4400" spc="-1" strike="noStrike">
                <a:solidFill>
                  <a:srgbClr val="660066"/>
                </a:solidFill>
                <a:latin typeface="Comic Sans MS"/>
              </a:rPr>
              <a:t>Негізгі қасиеттер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907920"/>
            <a:ext cx="0" cy="595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60720" y="76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4800" y="6922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1484280"/>
            <a:ext cx="180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232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Caption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Back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Fore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484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ске қосылуын орна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02392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үрін өзгерту   (0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6002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рет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6840720" cy="3170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3589200"/>
            <a:ext cx="38163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43640" cy="4024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399096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4365720"/>
            <a:ext cx="4826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уыстырғыштың іске қосылуы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рна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Fals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ауыстырғыштың ажыратылу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5000" cy="3527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118040" cy="6524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11280" y="4076640"/>
            <a:ext cx="367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алауша орнатылма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жалауша орнатылған күй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 – белгісіз кү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16360" cy="3467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082760" cy="532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68360" y="4221000"/>
            <a:ext cx="34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 – кәдімгі тү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– батырма секілді өзге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6870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ішінде(формада) орнатылған ауыстырғыштар мен жалаушалар арқылы мәтіннің (текстің) жазылу үлгілерін орнататын қосымша жасау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5596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1163520"/>
            <a:ext cx="4680000" cy="560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   Times New Roman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ыз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Жасы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ption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     Кө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341360"/>
            <a:ext cx="3816360" cy="289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c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Қалы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cc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Check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ion  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Кур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xtB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 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а Әә Бб Вв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115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4003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501156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77080" y="1700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7708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41708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76360" y="1125360"/>
            <a:ext cx="640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08000" y="0"/>
            <a:ext cx="532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3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Option4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ForeColor = vb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95640" y="0"/>
            <a:ext cx="554508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1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Check2_Click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Text1.Set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Private Sub Text1_GotFoc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1.Value = Checked Then Text1.FontBold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Bold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If Check2.Value = Checked Then Text1.FontItalic = True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Else Text1.FontItalic =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Үйге тапсыр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6-97 бетте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Ауыстырып қосқыш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k-KZ" sz="3200" spc="-1" strike="noStrike">
                <a:solidFill>
                  <a:srgbClr val="000099"/>
                </a:solidFill>
                <a:latin typeface="Comic Sans MS"/>
              </a:rPr>
              <a:t>Жалауш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5832720" cy="38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756720" y="1197000"/>
            <a:ext cx="646200" cy="26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197000"/>
            <a:ext cx="93636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5080" y="40464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tion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320" y="3333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2852280"/>
            <a:ext cx="215928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73360"/>
            <a:ext cx="237636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tionButton 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Ауыстырып қосқы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528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2521080" cy="188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26920" y="4292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әліметтер топтамасы ішінен тек бір вариантын ғана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19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9280" y="2852640"/>
            <a:ext cx="1224000" cy="1081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Box</a:t>
            </a:r>
            <a:r>
              <a:rPr b="0" lang="kk-KZ" sz="4400" spc="-1" strike="noStrike">
                <a:solidFill>
                  <a:srgbClr val="000000"/>
                </a:solidFill>
                <a:latin typeface="Comic Sans MS"/>
              </a:rPr>
              <a:t> Жалауш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1441440" cy="1513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4824360" cy="1871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4365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птамалар ішінен бір немесе бірнеше вариант таңдауына мүмкіндік беред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064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4:46Z</dcterms:created>
  <dc:creator>Камила</dc:creator>
  <dc:description/>
  <dc:language>en-US</dc:language>
  <cp:lastModifiedBy>Камила</cp:lastModifiedBy>
  <dcterms:modified xsi:type="dcterms:W3CDTF">2010-12-31T17:26:29Z</dcterms:modified>
  <cp:revision>30</cp:revision>
  <dc:subject/>
  <dc:title>OptionButton Ауыстырып ќосќыш,  CheckBox Жалауша </dc:title>
</cp:coreProperties>
</file>